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E14-7FD9-4D5F-B95C-E880E59B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AED-EB82-4B3B-A6E0-8A0DCD47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114-EA83-46D7-A0C6-3262A08E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5B2-2FCF-4A5D-9C16-A9C277E5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A6587-CEF2-446A-8EED-5E44F994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F5D62-C9C7-4C81-B6CD-F3F75818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82390-AC16-4190-A38D-E2346552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40DD-2EF4-4ECE-BD3E-C1E87204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71BE2-B5A9-42EF-9776-1E15675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7D7CC-0B93-42FA-BC3A-A085470B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45F1D-A4B2-4A5B-A8B8-A432A403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6A0-C9C5-41CD-9ED7-C6A483B7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0B67D-6CA5-4670-A105-6595C748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FADAD-193A-415D-B76E-F772C169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CE622-CA3A-4A37-B3FE-76DF46A3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2752D-DFC2-4AEB-BB5F-92833240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E98D9-C3C2-4C21-BFCF-6508433D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269-CDBB-4761-B64D-4462C83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016-CD31-43F4-AFED-EC05F3B6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BCA-D163-4ADC-A68C-14A68B4D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243-B674-44C9-821D-177890A0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F8F-5809-422A-A392-4ECC41CB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6EE-A66B-4D94-AEE1-BB1E1D65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C40-D785-4003-99DE-58DEABC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E421-633B-4BD2-9004-69413ACCB6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3A5B-840C-4397-B171-48BAAA76D6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n593tLPiUAqN.jzbkF/SIG=128kj5mna/EXP=1266502009/**http%3A//www.blisstree.com/files/2009/04/mushroom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5x.HtLRBsA.lCjzbkF/SIG=12jrsbbp8/EXP=1266502129/**http%3A//www.aces.edu/dept/extcomm/newspaper/graphics/no-ti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Mo_HtLZz4ArvajzbkF/SIG=13jn1iel3/EXP=1266503080/**http%3A//www.houffs.com/Portals/57ad7180-c5e7-49f5-b282-c6475cdb7ee7/Services/services-nutman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rds.yahoo.com/_ylt=A0WTefdk_ntLAGsAq4ujzbkF/SIG=12citao2b/EXP=1266503652/**http%3A//env1.kangwon.ac.kr/chemmod/images/groundwater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HSn1LiGYAFJ.jzbkF/SIG=128jbbpep/EXP=1266588679/**http%3A//www.flickr.com/photos/97858341@N00/416705030/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514600" y="914400"/>
            <a:ext cx="441972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gricultur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371600" y="439272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 Matthew Pomich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 Bi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133720" y="2649600"/>
            <a:ext cx="51814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2286000" y="1143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143000" y="1981080"/>
            <a:ext cx="70866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.wikipedia.org/wiki/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news.osu.edu/archive/notill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.wikipedia.org/wiki/No-till_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griculture.state.pa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gclassroom.org/kids/stats/pennsylvania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Agriculture 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ion of food and goods through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cal improvements such as plant breeding, pesticides and fertilizers, and have sharply increased yields from cul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at the same time have caused widespread ecological damage and negative human health effec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riculture in P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nsylvania ranks first nationally in producing mushrooms with annual production of 443 billion lb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ter wheat is an important crop in the southeast whereas Buckwheat is a major crop in the northeast. Other important crops include potatoes, oats, rye, barley, and a variety of truck cr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nsylvania also grows apples, cherries, peaches, and gr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981080"/>
            <a:ext cx="3635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 Till Farm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-till farming (sometimes called zero tillage) is a way of growing crops from year to year without disturbing the soil through till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s planting crops without plowing the soi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problems involve residue management and increased weed and disease infes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help slow global climate change by trapping carbon in soil rather than releasing its byproduct, carbon dioxide, into the ai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752480"/>
            <a:ext cx="41148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aditional Farm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t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preparation of the soil by plowing, ripping, or turning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ifferent types of tillage - Intensive, reduced , con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 of tillage are erosion, substantial organic matter lost, and it is time cos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276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utrient Manag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rocess used by farmers to manage the amount of fertilizer and time it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ould manure or commercial ferti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is to maximize crops while minimizing source pollution, contamination of groundwater, &amp; improve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pollution - runoff of pollutants to surface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905120"/>
            <a:ext cx="2361960" cy="19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4419720"/>
            <a:ext cx="23810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oblems with Fertilizer Run-of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itrogen-rich compounds found in fertilizer run-off is the primary cause of serious oxygen depletion in many parts of the oce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s billions of tons of topsoil into waterways each year, causing loss of valuable topsoil and adding sediment to produce turbidity in surface wa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505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thane Cap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520" y="14479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s an industrial waste product into a new source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c matter is collected in an enclosed tank called a diges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controlling temperature and air flow, anaerobic bacteria will decompose the organic matter, producing meth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ethane can be collected and siphoned to storage tanks or a generator for production of on-site energy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22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View Image"/>
          <p:cNvPicPr/>
          <p:nvPr/>
        </p:nvPicPr>
        <p:blipFill>
          <a:blip r:embed="rId3"/>
          <a:stretch/>
        </p:blipFill>
        <p:spPr>
          <a:xfrm>
            <a:off x="4648320" y="3962520"/>
            <a:ext cx="403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1854360" y="8701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981080" y="25146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youtube.com/watch?v=O1tdG6ec0h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youtube.com/watch?v=wLDk6-B1ZP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06:00Z</dcterms:created>
  <dc:creator>SASD</dc:creator>
  <dc:description/>
  <dc:language>en-US</dc:language>
  <cp:lastModifiedBy>sasd</cp:lastModifiedBy>
  <dcterms:modified xsi:type="dcterms:W3CDTF">2010-03-10T15:41:42Z</dcterms:modified>
  <cp:revision>10</cp:revision>
  <dc:subject/>
  <dc:title>Slide 1</dc:title>
</cp:coreProperties>
</file>